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77AB-8CC0-475D-9C3A-48174CCB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A030-2F18-45AE-8BDB-8F9AA981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433D9-2F3F-4004-8E2B-EF4E964F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7D439-F0E5-4797-9DF1-E926C786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2B07D-374D-46D7-88B4-A91DDB01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55BD2-E4FC-4035-A098-93AB141A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12D8F-2DC6-4641-B1F8-36A02A66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2C40E-4F0F-4515-B3F1-52D33B85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D2FE3-399B-4881-9B09-6A07B716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14A22C-DD74-4F4D-A7D7-9D6551B78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ED1AE-3556-4DA9-98A2-3AFCFC6F1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21698-E2F3-470B-8BA2-FEF35AE6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9C96-4B1D-455B-8083-74E48A6EE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722765-6ADA-4805-9A86-C0F8235A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32C22-2736-4CC1-BF09-47D243B5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98CFC-7A3B-407C-BC83-2B514361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EE7E0-2EF2-4741-8858-B31C5A41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6DFB9-259F-49E5-82D8-9E484F97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87065-1B5C-45E9-8C88-E37F0D10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9035A-ABC7-4F24-BB57-22036737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F287C-2F12-4B3C-9132-5F42CCC0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23E76-89DC-43AC-9B05-A2A6CFD2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4B496-02CE-4D00-B44F-8979A0715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5BAD-CF41-43E4-BDE0-F466EDCD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14C0C-492F-405A-A645-8430821CE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80AE4-C679-4CEF-BF08-27686094B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BE31D-7728-44F5-B175-EE11A44E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F2402-689D-4ADB-B1CE-85CA8ADE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1687C-74C5-4BA4-BCA3-3DA02F71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88C42-89C6-4522-8607-F9F4E472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D6272-8473-4572-853B-5B48561B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0E956-D222-40E3-A051-858C8A84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E91B6-4778-46C4-918A-F5E04F8C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23F23-1FC4-476F-8884-CA438C72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BFC1-45B2-49A7-ACB2-9F92B5D7E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78604-CEE9-4888-ADCC-DB475976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C2536-50D8-4C81-9535-0093F610D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A44D5-FB4F-4A56-9C18-EF28BCE34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A431C2-6DB6-41CB-874E-A4913EDD4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4FB762-77AA-4A7A-B17C-D5E25712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50CD49-28D1-4395-8E56-E4C331EB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53C3A-4A01-4BBE-A699-977E7A48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89742-321E-42E9-81D3-057F31FF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01FAC-6B80-47F4-8B5E-C3747C11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00AC8A-93EF-46D5-BBEC-CFD88FEE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6848-2AB6-4A71-AD03-7D0FA9D8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7BA1F-A1C2-4107-9FD0-5C61066F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AA0283-B9FF-4099-A77D-0D23E453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ED1EC-2A76-44AD-9F52-934B91AF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59300-E826-4456-959A-3A7AA1CDC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7B61D-030B-4CE4-89C0-C117A32BD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704541-BF41-47FB-A26D-A0BE5BD1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9926FF-1ECF-4AAD-BCE3-9A7640D6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71EE2C-77CB-43F4-A2E3-807C2FDD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96BB97-3214-4462-AC61-C34B3FC2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F19362-2E1B-483C-A987-DCA03AF6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8774-9DBF-459E-9AD0-A4F8EB3E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13F499-84F8-49D8-8127-F2AC47CE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E67BA4-7490-497F-8D55-26DD4D2F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B28C25-524D-46C8-A7A8-0953D755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03B073-476B-4E2E-A5EC-DFA7ADE2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277F85-3356-49F8-A63C-02D5A59E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4F79B0-9270-4D96-A3C2-E57EC2802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4AD5BE-5190-4CAB-BB7E-6D0CA778F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BB0095-F458-491C-9072-87B9766D8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112A6E-FD5F-4C9C-9A4D-ADDC4B65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8746F1-9266-42C9-9368-65E8EA48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67FB-7243-48D7-967C-B227B7B4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1FEDB9-DE16-4369-A163-0BB8FCAA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7B8147-699D-4848-9D7A-94CD1839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599E42-427C-4332-91F4-5874A68D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6F7AA9-C437-44DC-9344-9E7E58D3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33671B-9074-4D13-B4F7-0D4055D5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66E34E-2109-4951-B707-D749BACF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A6F366-9894-4DE0-897B-E41E55ED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088A52-5A7A-4398-B0D5-C1B9514B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DD1D03-9E87-423C-909D-568EE10C3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D2F472-6DB6-4E23-94C6-3B81DB564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A592-FBCD-4046-A3E8-C545ED76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C98831-E0B6-4181-BB74-CC133686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0EF37E-0A00-4B48-8E90-6B500739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A3B6CF-A69D-4E2D-BC2D-8EE86D1B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1C2754-D383-48F1-9151-2873F912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9F0818-1591-4012-AEE6-E9EE08CA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430F69-93EC-442E-9AC5-6E28B37F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B48C8E-CF38-43D0-B9C2-E57EB9D1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938EBA-B7AF-4AFB-ADA4-DD6BABB4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114B70-4214-4A74-AF6E-4F5C532A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625B18-9800-4E57-B599-727BE60F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CDA8-01FB-4D8E-937F-E7301E87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14E503-088B-4207-ACA5-95B2A1B3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8B28EB-3F8D-4D61-B1A2-CE755DC0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4C7717-FD21-4110-A4B4-65D597FE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C191F4-154A-4DF9-89C9-EE6CD853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DA0C8B-438E-43EB-A958-90AA7677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E7138E-5CE2-40E0-9A26-8D5D4E25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715FB8-DC6E-4E88-A487-C6E12DAF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32939E-F474-4F51-B2E5-14829B26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C633BC-FF85-40B5-B12C-DC8D7D4C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BE2EF2-27E9-4732-852F-62269329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24E6-6EDF-46D1-AF30-922182EF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8BF5D6-A650-49FC-8818-79D9198A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BAA959-0B9D-4B6F-905B-E981860A9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A6E4B1-429C-4134-8A58-9D52CD56A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AB224A-3642-454A-8C7D-AFBAB1C4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870B45-23F3-4DDC-8EB4-E96FD95A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C91F8F-C737-4AE6-B489-D799DE73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7356CA-ECEC-45BD-9681-9A604750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259ED6-6590-4D42-9005-4E5F3674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BDD158-C614-45D4-9EF7-6FB990D7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899571-2068-4BE3-B324-25846246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0006-233B-4517-A8EC-CD44AC77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C9CB-B155-491B-A60A-BD267D2A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AA97B0-3EBF-4D0C-9587-E3AFEECF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FB06C2-6538-49FA-9E6E-A3A41B17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42F790-0FFB-4B2D-A5FD-29AAB218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E40B49-BF97-4771-9FCF-68DA7784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3B4E71-B93C-4C9F-9A8C-9D6855E96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C7BF84-B5D1-46A9-BDC8-6194EE5F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9EB91B-74E5-4393-9D7E-469CA6FE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6477B1-BCAC-43B6-BE3C-58C0155B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DC22BB-519D-4284-AFF1-CE2A9DF7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B23A09-E2E4-4567-9133-C0FD7163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224E-A420-4BD1-ABF2-3906D708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841520-CFD4-4E88-BC0B-A98C5234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0AB11C-13A6-4DA6-B876-9779251E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6D6300-0CE1-4E1C-8E87-5C160A7A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20E94D-F0A1-4F02-A3DC-E600137F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E7319F-E3FA-4DFA-8E24-54D385A1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2AE6BE-3FC1-424C-8BD1-4EFCFFE1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4843C6-1025-4DF6-967D-13EF3DFCD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CDA894-9845-466A-A1E0-B4DB11F1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4535FB-6F05-493D-9A1B-059FEF5B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1337D6-5387-41C1-9DDD-3385FA68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23CC-A661-4279-867B-FFA56215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D844B2-8D0E-4B88-BBCD-72313735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93B158-58D9-411F-ACCC-F5AEFCE0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4FDAC1-F938-4E7B-B366-4A2152AD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129F25-4566-4D07-B519-2473305F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879680-533D-4F9E-9E5C-B755AAAE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E64FBD-ADDF-4172-81C1-63D04353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50A5FD-CB2B-42CA-A2A8-2E0F80D6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AE3955-7317-4B44-9B88-B080DA35B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40B5C3-E091-4551-95A4-09BF9E6B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ADC438-188C-4475-90A8-10C6CBF4D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96DD-12AC-426C-B969-D4A87E42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62AC08-6F5A-4185-863D-5C43AD81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886F21-FB2E-43D3-A54B-20224542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C9A26E-9DF8-4444-8C31-1C79629D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07A883-B7DD-48C2-9121-DA6E53D7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941910-2526-4F09-8781-F3F82F1E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58824A-32FA-43F0-BD4C-F2AB3A7A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4EF0D0-9819-4683-899E-269AF0E8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FBD1E4-D858-4905-823B-D5BBAB52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8025CB-4E2A-428F-87EB-19001E7F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80A870-FCE0-4E59-85B7-6890FC34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EAFB-06F3-4A32-8351-BB0581C5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E1DF70-1436-4AD4-897D-FD868AF4B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363D3A-2C00-41C3-9100-188517128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89BC71-65E9-4D7E-AB40-F2313AE8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45C2BF-A3CC-40E7-95F8-4D64FE2C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5E032E-5828-43D7-AED0-1ACB2331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8636E7-7DF2-4E11-9537-F383564E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355513-4893-4AA9-BB67-C872926B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13364A-0F9A-4F5E-B5C5-C75D7D2A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5F93C3-2E88-40D6-AD57-9EBBE02A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4090A5-7084-4093-A1F4-01227461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45F6E-24F8-499E-9F1A-2CF63990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68D433-AD0B-40F0-AB96-F6F8B241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483460-6573-4974-82E5-6281C410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E397E8-37F8-4248-B5D6-9D293BE01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65FC7B-F5FA-4FAF-9336-C4756868F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B0E9EE-4C0D-461E-B9E0-4CC1957C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CBF393-7D77-443B-BB82-3E83371E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1D0232-05D6-45B0-9F07-0C64FBF5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DBF32A-52F5-4823-BC7F-17A00269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00F403-D047-4511-ACF0-3B0EB3B0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06BA75-35CE-417E-B67D-3E9BEB71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5313C-E8AE-40D4-833F-DB7B5577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1161D6-66AC-4932-8AE3-F120905E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4E3ED4-A50F-4654-B454-8991BD74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43ECED-71F6-4F83-AAF6-13A13433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D553B2-4B29-40D0-92E3-D2D4B89EF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516A70-6652-43B4-ACF0-23D02858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8E697C-2BEF-4386-82E2-CAC2582D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F790F4-81E7-4811-A8C3-0B9AFFEF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0E10D9-339D-4230-98D4-08C0C266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36E796-8B20-47BC-8495-DB2CF97F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AB3FC1-9080-4D1E-914D-332216F6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D68A0-40F4-4B98-8E1E-48746235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021A63-DAE7-4BFD-B50B-3406A190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BAFF72-D2FC-4732-9F22-17E5D924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7EB15A-CB4E-43D1-A4B6-41D97AF6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1E0F80-7427-498E-83DD-61A5D0D0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097C9A-6E43-47C9-B2D9-1D57FF47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0216C5-8ECB-4C48-A26D-4460FC6D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53AA3D-4EEF-4F68-935A-A89E2FB4C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34B67-FC84-46BB-88F1-1504D85B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D65EA-BE0F-4379-B2AD-44A6FAF8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E1AF-E73D-4C0E-8DCE-3358D368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CA449-64BF-4213-9966-23ED13D9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04052-5459-400D-B2D0-42F94506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B22BD-59B3-4590-8775-43F6698E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183BD-B555-408C-A271-172F606D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983D7-142C-4E03-88CF-B53DECD4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3DE5D-D22E-4790-9925-617E897B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64ADC-5FC0-4F96-ADC2-5D232B5B4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CD26D-A51F-4A11-B33B-62B0DBB5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410EB-5BBD-4105-9D57-58CAAC51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F3FD5-B03C-4A13-A0AE-97B267AF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8AD1-522C-4E07-BCDA-BA9D2C45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07A17-835D-4AF8-96B6-2B0FB103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AAEE9-6427-4308-B22C-882C7C87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374D7-13DB-46EF-89E4-68139329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0441E-D28A-44DB-A975-7ED628AD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B62BD-1F57-4ED0-87E5-8DB772A5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E438A-07C7-4C99-83C7-80A9132A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2C5F1-5FCA-40B9-BA8D-355C57F4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C319F-B385-4055-9746-07AE58B99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66984-FE42-4933-85B9-64537D01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4536A-708A-4EDD-9EFE-EB05F124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C4F6-DDAF-4B31-B0FF-F5FF60F6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ACAA2-4EAA-4267-828B-84441C19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54A99-D20D-40E7-8DE2-54E1F000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8357E-E3D1-4965-8F5B-6F5AD7F5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F2AEE-1BCD-4446-B665-03C4E0F1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FFD96-21DD-4786-9CE7-48666B42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1CD42-08BC-4FD3-AE70-612E9F21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844FC-6DE2-4E88-A931-C8D7E67A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94372-5DA5-4D94-B1D8-2BEAE349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1BBCF-C3AA-47E6-AEFF-2B9421B7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DA0C8-0E6E-426E-BB9C-F0611F7E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5DB6-3B42-421D-A240-D5605862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D2A5F-4997-4266-8BAD-85356531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3133A-892C-4D38-A5EA-C98BCC1A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64A0D-8035-4FF4-B83D-C015DD89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FB13B-D66F-4C88-BDF2-0E768ADB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8D9B5-246E-4702-8CF3-1B1DDDF5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7ECCA-F5CA-4F1B-B1B6-92ACCA17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729CF-5343-4484-9E02-9B9D0DDC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34C35-0F04-4F8D-9CBE-585BEEEA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0DDFB-7020-4EC8-8F4A-77FACDC2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9866D-6FE1-4FE1-8C17-4D067098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F8D9-7E44-4DA0-9F19-7C70383E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B52B7-1B88-482D-B099-742BFE52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9BD3A-6907-4CE4-ADE4-1DD30BC35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7AA0B-0ADF-4E18-A9B2-844212A60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65437-8642-4F60-9944-1EAEFACF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E896C-516D-47E1-8B93-373DA956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AAF86-0F16-4C51-8C26-C60FE53C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7709C-7C87-41E4-BA74-6448D76C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81A38-CFFC-4369-B670-CBE4BEC3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77BD0-4A86-4CC0-9F9B-E1851F39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AFF06-018C-45A0-835D-DD234E94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2BB5-6BD6-4D2E-8123-32787391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AC14D-5622-4E09-A3E8-E0DAD429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D071B-F8FA-4A88-97AB-BE209A5F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9011D-8092-4887-BB35-8A3042AB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1E67C-ECBB-4C69-B525-8662972FE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92604-EB4E-423D-9AE3-DB9DC532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136CD-3310-410E-8D65-1375B8FE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54C36-650D-4DC4-A19C-D013B7C3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581DD-16C6-4B8A-893F-E618B23D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DCA1A-D096-46D4-9082-A12EABFC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9DC44-BB9E-4955-80E4-BA6B13F1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DF54-E4FE-4B0E-96C1-131A6371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8215C-B568-46C3-81DB-2C232897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C30F4-924F-4544-ACEF-1720113D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6F223-2809-4EF5-8276-FA107B5B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BF260-96B5-433B-9927-53DD3DB2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9078F-B375-4E69-9085-849BFF29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F7DCF-C923-434D-B515-5196B2AE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D394C-3144-4E0E-A5A5-64FDE633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7227C-24F5-47A0-88AB-3135D0116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6CE92-55DA-4FDC-9478-73A41B93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C3988F-E610-41AB-B088-6247B0FB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226A-E02F-4812-AE1E-4A14563724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442B-397E-4ED6-BEF9-630BA6397A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2906-4543-4BFE-9D1D-E8FBB7715A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2902-A933-409F-9313-D30B44D30B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CCE8-B984-4A54-92AA-878866B39F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F823-7C7C-47DD-96F1-6EE2327B0F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4900-9119-41B6-99A5-5CF3FAB886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5BEC-E0BC-43CE-AEC6-C030022541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924A-7AA1-4C92-9094-A2F5924F70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4F26-543F-4D7E-A880-ADF03A9A53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2CE0-54CF-4691-9C22-8CC3541D02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CDB4-737B-4396-B723-58AA7ABD4F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EB4F-6B2E-4A6B-B8F1-C256CAD29F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00B5-6D05-425D-9153-FDD2FA8E95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2B4C-B6D1-4AD2-AEDA-80EF7054FE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C99D-EB60-4EC2-A847-BF5B5CA662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D109-0F5B-4BD1-BAE6-D2D94BA041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3FFC-612C-4B65-99F3-A2715E1381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91B3-4E61-4AFF-BA5A-4BF43DC82F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019D-E15B-41BC-AA5A-94F0D0983A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AE64-16CF-4945-83F0-0AA9AC2DC9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259D-5F14-441C-90E7-0C9474C76DB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7164-8007-4003-84A5-2D79EF7CC0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5F03-23AE-429D-81C3-B98F732FCA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A94B-BC3F-47D1-BE8E-756080D5EF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DCA9-BF0A-4B49-A6FD-5274A39809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C7DF-090A-4522-80B9-C349747EC2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2EAD-AC45-4BDB-A918-BD09AC481A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677C-51AE-44BB-A243-3242AA315B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EA3F-21E1-4568-ABF2-76BEC8270D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D191-B843-45DD-B3D4-B9689118A3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4C31-2F43-4782-9B8E-78D2C57DF8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14FF-D4F6-4B2B-95FF-2F67AE61DB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CA27-C9FA-4690-BA4A-33E2BFDF6F7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917F-0C04-4493-89F4-665B1015B6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E993-7691-4845-ACC3-F62086EDC9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5474-332A-49AD-9BCC-1E4672097B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65CB-090F-4268-A971-07AFEDD39E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A339-7A58-4E06-87C9-82675BF0D8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743E-B29A-42B1-ACA0-BBC2CDAA47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186D-C180-4602-BF39-C628E6703B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DEE3-2404-4DEC-9275-EFF55A0995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142920" y="2666880"/>
            <a:ext cx="8858160" cy="2562480"/>
          </a:xfrm>
          <a:prstGeom prst="rect">
            <a:avLst/>
          </a:prstGeom>
          <a:ln w="0">
            <a:noFill/>
          </a:ln>
        </p:spPr>
      </p:pic>
      <p:pic>
        <p:nvPicPr>
          <p:cNvPr id="1107" name="图片 5122" descr=""/>
          <p:cNvPicPr/>
          <p:nvPr/>
        </p:nvPicPr>
        <p:blipFill>
          <a:blip r:embed="rId2"/>
          <a:stretch/>
        </p:blipFill>
        <p:spPr>
          <a:xfrm>
            <a:off x="3708360" y="981000"/>
            <a:ext cx="176220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4" name="图片 1" descr=""/>
          <p:cNvPicPr/>
          <p:nvPr/>
        </p:nvPicPr>
        <p:blipFill>
          <a:blip r:embed="rId1"/>
          <a:stretch/>
        </p:blipFill>
        <p:spPr>
          <a:xfrm>
            <a:off x="295200" y="1481040"/>
            <a:ext cx="8553600" cy="389592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1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1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1" descr=""/>
          <p:cNvPicPr/>
          <p:nvPr/>
        </p:nvPicPr>
        <p:blipFill>
          <a:blip r:embed="rId4"/>
          <a:stretch/>
        </p:blipFill>
        <p:spPr>
          <a:xfrm>
            <a:off x="684360" y="2637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1" descr=""/>
          <p:cNvPicPr/>
          <p:nvPr/>
        </p:nvPicPr>
        <p:blipFill>
          <a:blip r:embed="rId5"/>
          <a:stretch/>
        </p:blipFill>
        <p:spPr>
          <a:xfrm>
            <a:off x="684360" y="2997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1" descr=""/>
          <p:cNvPicPr/>
          <p:nvPr/>
        </p:nvPicPr>
        <p:blipFill>
          <a:blip r:embed="rId6"/>
          <a:stretch/>
        </p:blipFill>
        <p:spPr>
          <a:xfrm>
            <a:off x="611280" y="3429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1" descr=""/>
          <p:cNvPicPr/>
          <p:nvPr/>
        </p:nvPicPr>
        <p:blipFill>
          <a:blip r:embed="rId7"/>
          <a:stretch/>
        </p:blipFill>
        <p:spPr>
          <a:xfrm>
            <a:off x="611280" y="3789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1" name="Picture 1" descr=""/>
          <p:cNvPicPr/>
          <p:nvPr/>
        </p:nvPicPr>
        <p:blipFill>
          <a:blip r:embed="rId8"/>
          <a:stretch/>
        </p:blipFill>
        <p:spPr>
          <a:xfrm>
            <a:off x="684360" y="422100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62" name="Picture 1" descr=""/>
          <p:cNvPicPr/>
          <p:nvPr/>
        </p:nvPicPr>
        <p:blipFill>
          <a:blip r:embed="rId9"/>
          <a:stretch/>
        </p:blipFill>
        <p:spPr>
          <a:xfrm>
            <a:off x="684360" y="458136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63" name="Picture 1" descr=""/>
          <p:cNvPicPr/>
          <p:nvPr/>
        </p:nvPicPr>
        <p:blipFill>
          <a:blip r:embed="rId10"/>
          <a:stretch/>
        </p:blipFill>
        <p:spPr>
          <a:xfrm>
            <a:off x="611280" y="501336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4" name="图片 1" descr=""/>
          <p:cNvPicPr/>
          <p:nvPr/>
        </p:nvPicPr>
        <p:blipFill>
          <a:blip r:embed="rId1"/>
          <a:stretch/>
        </p:blipFill>
        <p:spPr>
          <a:xfrm>
            <a:off x="95400" y="919080"/>
            <a:ext cx="8953200" cy="5019840"/>
          </a:xfrm>
          <a:prstGeom prst="rect">
            <a:avLst/>
          </a:prstGeom>
          <a:ln w="0">
            <a:noFill/>
          </a:ln>
        </p:spPr>
      </p:pic>
      <p:pic>
        <p:nvPicPr>
          <p:cNvPr id="1165" name="Picture 1" descr=""/>
          <p:cNvPicPr/>
          <p:nvPr/>
        </p:nvPicPr>
        <p:blipFill>
          <a:blip r:embed="rId2"/>
          <a:stretch/>
        </p:blipFill>
        <p:spPr>
          <a:xfrm>
            <a:off x="395280" y="486900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图片 1" descr=""/>
          <p:cNvPicPr/>
          <p:nvPr/>
        </p:nvPicPr>
        <p:blipFill>
          <a:blip r:embed="rId1"/>
          <a:stretch/>
        </p:blipFill>
        <p:spPr>
          <a:xfrm>
            <a:off x="244440" y="1536840"/>
            <a:ext cx="8875800" cy="1981080"/>
          </a:xfrm>
          <a:prstGeom prst="rect">
            <a:avLst/>
          </a:prstGeom>
          <a:ln w="0">
            <a:noFill/>
          </a:ln>
        </p:spPr>
      </p:pic>
      <p:pic>
        <p:nvPicPr>
          <p:cNvPr id="1167" name="图片 2" descr=""/>
          <p:cNvPicPr/>
          <p:nvPr/>
        </p:nvPicPr>
        <p:blipFill>
          <a:blip r:embed="rId2"/>
          <a:stretch/>
        </p:blipFill>
        <p:spPr>
          <a:xfrm>
            <a:off x="352440" y="3633840"/>
            <a:ext cx="7858080" cy="2400120"/>
          </a:xfrm>
          <a:prstGeom prst="rect">
            <a:avLst/>
          </a:prstGeom>
          <a:ln w="0">
            <a:noFill/>
          </a:ln>
        </p:spPr>
      </p:pic>
      <p:pic>
        <p:nvPicPr>
          <p:cNvPr id="1168" name="Picture 1" descr=""/>
          <p:cNvPicPr/>
          <p:nvPr/>
        </p:nvPicPr>
        <p:blipFill>
          <a:blip r:embed="rId3"/>
          <a:stretch/>
        </p:blipFill>
        <p:spPr>
          <a:xfrm>
            <a:off x="611280" y="1557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1" descr=""/>
          <p:cNvPicPr/>
          <p:nvPr/>
        </p:nvPicPr>
        <p:blipFill>
          <a:blip r:embed="rId4"/>
          <a:stretch/>
        </p:blipFill>
        <p:spPr>
          <a:xfrm>
            <a:off x="539640" y="227664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1" descr=""/>
          <p:cNvPicPr/>
          <p:nvPr/>
        </p:nvPicPr>
        <p:blipFill>
          <a:blip r:embed="rId5"/>
          <a:stretch/>
        </p:blipFill>
        <p:spPr>
          <a:xfrm>
            <a:off x="684360" y="3645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1" descr=""/>
          <p:cNvPicPr/>
          <p:nvPr/>
        </p:nvPicPr>
        <p:blipFill>
          <a:blip r:embed="rId6"/>
          <a:stretch/>
        </p:blipFill>
        <p:spPr>
          <a:xfrm>
            <a:off x="684360" y="482616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图片 1" descr=""/>
          <p:cNvPicPr/>
          <p:nvPr/>
        </p:nvPicPr>
        <p:blipFill>
          <a:blip r:embed="rId1"/>
          <a:stretch/>
        </p:blipFill>
        <p:spPr>
          <a:xfrm>
            <a:off x="237960" y="1166760"/>
            <a:ext cx="866808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3" name="图片 1" descr=""/>
          <p:cNvPicPr/>
          <p:nvPr/>
        </p:nvPicPr>
        <p:blipFill>
          <a:blip r:embed="rId1"/>
          <a:stretch/>
        </p:blipFill>
        <p:spPr>
          <a:xfrm>
            <a:off x="358920" y="679320"/>
            <a:ext cx="8427960" cy="3600720"/>
          </a:xfrm>
          <a:prstGeom prst="rect">
            <a:avLst/>
          </a:prstGeom>
          <a:ln w="0">
            <a:noFill/>
          </a:ln>
        </p:spPr>
      </p:pic>
      <p:pic>
        <p:nvPicPr>
          <p:cNvPr id="1174" name="图片 2" descr=""/>
          <p:cNvPicPr/>
          <p:nvPr/>
        </p:nvPicPr>
        <p:blipFill>
          <a:blip r:embed="rId2"/>
          <a:stretch/>
        </p:blipFill>
        <p:spPr>
          <a:xfrm>
            <a:off x="162000" y="4551480"/>
            <a:ext cx="8820000" cy="1962000"/>
          </a:xfrm>
          <a:prstGeom prst="rect">
            <a:avLst/>
          </a:prstGeom>
          <a:ln w="0">
            <a:noFill/>
          </a:ln>
        </p:spPr>
      </p:pic>
      <p:pic>
        <p:nvPicPr>
          <p:cNvPr id="1175" name="Picture 1" descr=""/>
          <p:cNvPicPr/>
          <p:nvPr/>
        </p:nvPicPr>
        <p:blipFill>
          <a:blip r:embed="rId3"/>
          <a:stretch/>
        </p:blipFill>
        <p:spPr>
          <a:xfrm>
            <a:off x="539640" y="4508640"/>
            <a:ext cx="432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图片 1" descr=""/>
          <p:cNvPicPr/>
          <p:nvPr/>
        </p:nvPicPr>
        <p:blipFill>
          <a:blip r:embed="rId1"/>
          <a:stretch/>
        </p:blipFill>
        <p:spPr>
          <a:xfrm>
            <a:off x="111240" y="550800"/>
            <a:ext cx="8923320" cy="6257880"/>
          </a:xfrm>
          <a:prstGeom prst="rect">
            <a:avLst/>
          </a:prstGeom>
          <a:ln w="0">
            <a:noFill/>
          </a:ln>
        </p:spPr>
      </p:pic>
      <p:pic>
        <p:nvPicPr>
          <p:cNvPr id="1177" name="Picture 1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78" name="Picture 1" descr=""/>
          <p:cNvPicPr/>
          <p:nvPr/>
        </p:nvPicPr>
        <p:blipFill>
          <a:blip r:embed="rId3"/>
          <a:stretch/>
        </p:blipFill>
        <p:spPr>
          <a:xfrm>
            <a:off x="324000" y="170028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79" name="Picture 1" descr=""/>
          <p:cNvPicPr/>
          <p:nvPr/>
        </p:nvPicPr>
        <p:blipFill>
          <a:blip r:embed="rId4"/>
          <a:stretch/>
        </p:blipFill>
        <p:spPr>
          <a:xfrm>
            <a:off x="395280" y="2852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80" name="Picture 1" descr=""/>
          <p:cNvPicPr/>
          <p:nvPr/>
        </p:nvPicPr>
        <p:blipFill>
          <a:blip r:embed="rId5"/>
          <a:stretch/>
        </p:blipFill>
        <p:spPr>
          <a:xfrm>
            <a:off x="395280" y="486900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图片 1" descr=""/>
          <p:cNvPicPr/>
          <p:nvPr/>
        </p:nvPicPr>
        <p:blipFill>
          <a:blip r:embed="rId1"/>
          <a:stretch/>
        </p:blipFill>
        <p:spPr>
          <a:xfrm>
            <a:off x="82440" y="711360"/>
            <a:ext cx="8790120" cy="742680"/>
          </a:xfrm>
          <a:prstGeom prst="rect">
            <a:avLst/>
          </a:prstGeom>
          <a:ln w="0">
            <a:noFill/>
          </a:ln>
        </p:spPr>
      </p:pic>
      <p:pic>
        <p:nvPicPr>
          <p:cNvPr id="1182" name="图片 2" descr=""/>
          <p:cNvPicPr/>
          <p:nvPr/>
        </p:nvPicPr>
        <p:blipFill>
          <a:blip r:embed="rId2"/>
          <a:stretch/>
        </p:blipFill>
        <p:spPr>
          <a:xfrm>
            <a:off x="104760" y="1542960"/>
            <a:ext cx="893448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3" name="图片 1" descr=""/>
          <p:cNvPicPr/>
          <p:nvPr/>
        </p:nvPicPr>
        <p:blipFill>
          <a:blip r:embed="rId1"/>
          <a:stretch/>
        </p:blipFill>
        <p:spPr>
          <a:xfrm>
            <a:off x="157320" y="1114560"/>
            <a:ext cx="8827920" cy="4628880"/>
          </a:xfrm>
          <a:prstGeom prst="rect">
            <a:avLst/>
          </a:prstGeom>
          <a:ln w="0">
            <a:noFill/>
          </a:ln>
        </p:spPr>
      </p:pic>
      <p:pic>
        <p:nvPicPr>
          <p:cNvPr id="1184" name="Picture 1" descr=""/>
          <p:cNvPicPr/>
          <p:nvPr/>
        </p:nvPicPr>
        <p:blipFill>
          <a:blip r:embed="rId2"/>
          <a:stretch/>
        </p:blipFill>
        <p:spPr>
          <a:xfrm>
            <a:off x="826920" y="1844640"/>
            <a:ext cx="3168720" cy="349200"/>
          </a:xfrm>
          <a:prstGeom prst="rect">
            <a:avLst/>
          </a:prstGeom>
          <a:ln w="0">
            <a:noFill/>
          </a:ln>
        </p:spPr>
      </p:pic>
      <p:pic>
        <p:nvPicPr>
          <p:cNvPr id="1185" name="Picture 1" descr=""/>
          <p:cNvPicPr/>
          <p:nvPr/>
        </p:nvPicPr>
        <p:blipFill>
          <a:blip r:embed="rId3"/>
          <a:stretch/>
        </p:blipFill>
        <p:spPr>
          <a:xfrm>
            <a:off x="826920" y="2608200"/>
            <a:ext cx="5977080" cy="349200"/>
          </a:xfrm>
          <a:prstGeom prst="rect">
            <a:avLst/>
          </a:prstGeom>
          <a:ln w="0">
            <a:noFill/>
          </a:ln>
        </p:spPr>
      </p:pic>
      <p:pic>
        <p:nvPicPr>
          <p:cNvPr id="1186" name="Picture 1" descr=""/>
          <p:cNvPicPr/>
          <p:nvPr/>
        </p:nvPicPr>
        <p:blipFill>
          <a:blip r:embed="rId4"/>
          <a:stretch/>
        </p:blipFill>
        <p:spPr>
          <a:xfrm>
            <a:off x="755640" y="3789360"/>
            <a:ext cx="5977080" cy="349200"/>
          </a:xfrm>
          <a:prstGeom prst="rect">
            <a:avLst/>
          </a:prstGeom>
          <a:ln w="0">
            <a:noFill/>
          </a:ln>
        </p:spPr>
      </p:pic>
      <p:pic>
        <p:nvPicPr>
          <p:cNvPr id="1187" name="Picture 1" descr=""/>
          <p:cNvPicPr/>
          <p:nvPr/>
        </p:nvPicPr>
        <p:blipFill>
          <a:blip r:embed="rId5"/>
          <a:stretch/>
        </p:blipFill>
        <p:spPr>
          <a:xfrm>
            <a:off x="755640" y="4537080"/>
            <a:ext cx="5977080" cy="34920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1" descr=""/>
          <p:cNvPicPr/>
          <p:nvPr/>
        </p:nvPicPr>
        <p:blipFill>
          <a:blip r:embed="rId6"/>
          <a:stretch/>
        </p:blipFill>
        <p:spPr>
          <a:xfrm>
            <a:off x="826920" y="5343480"/>
            <a:ext cx="597708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2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9" name="图片 1" descr=""/>
          <p:cNvPicPr/>
          <p:nvPr/>
        </p:nvPicPr>
        <p:blipFill>
          <a:blip r:embed="rId1"/>
          <a:stretch/>
        </p:blipFill>
        <p:spPr>
          <a:xfrm>
            <a:off x="133200" y="806400"/>
            <a:ext cx="8877600" cy="5904000"/>
          </a:xfrm>
          <a:prstGeom prst="rect">
            <a:avLst/>
          </a:prstGeom>
          <a:ln w="0">
            <a:noFill/>
          </a:ln>
        </p:spPr>
      </p:pic>
      <p:pic>
        <p:nvPicPr>
          <p:cNvPr id="1190" name="Picture 1" descr=""/>
          <p:cNvPicPr/>
          <p:nvPr/>
        </p:nvPicPr>
        <p:blipFill>
          <a:blip r:embed="rId2"/>
          <a:stretch/>
        </p:blipFill>
        <p:spPr>
          <a:xfrm>
            <a:off x="3132000" y="1585800"/>
            <a:ext cx="1224000" cy="349200"/>
          </a:xfrm>
          <a:prstGeom prst="rect">
            <a:avLst/>
          </a:prstGeom>
          <a:ln w="0">
            <a:noFill/>
          </a:ln>
        </p:spPr>
      </p:pic>
      <p:pic>
        <p:nvPicPr>
          <p:cNvPr id="1191" name="Picture 1" descr=""/>
          <p:cNvPicPr/>
          <p:nvPr/>
        </p:nvPicPr>
        <p:blipFill>
          <a:blip r:embed="rId3"/>
          <a:stretch/>
        </p:blipFill>
        <p:spPr>
          <a:xfrm>
            <a:off x="1346040" y="1973160"/>
            <a:ext cx="1224000" cy="349200"/>
          </a:xfrm>
          <a:prstGeom prst="rect">
            <a:avLst/>
          </a:prstGeom>
          <a:ln w="0">
            <a:noFill/>
          </a:ln>
        </p:spPr>
      </p:pic>
      <p:pic>
        <p:nvPicPr>
          <p:cNvPr id="1192" name="Picture 1" descr=""/>
          <p:cNvPicPr/>
          <p:nvPr/>
        </p:nvPicPr>
        <p:blipFill>
          <a:blip r:embed="rId4"/>
          <a:stretch/>
        </p:blipFill>
        <p:spPr>
          <a:xfrm>
            <a:off x="826920" y="2363760"/>
            <a:ext cx="1224000" cy="349200"/>
          </a:xfrm>
          <a:prstGeom prst="rect">
            <a:avLst/>
          </a:prstGeom>
          <a:ln w="0">
            <a:noFill/>
          </a:ln>
        </p:spPr>
      </p:pic>
      <p:pic>
        <p:nvPicPr>
          <p:cNvPr id="1193" name="Picture 1" descr=""/>
          <p:cNvPicPr/>
          <p:nvPr/>
        </p:nvPicPr>
        <p:blipFill>
          <a:blip r:embed="rId5"/>
          <a:stretch/>
        </p:blipFill>
        <p:spPr>
          <a:xfrm>
            <a:off x="4643280" y="2781360"/>
            <a:ext cx="1224000" cy="349200"/>
          </a:xfrm>
          <a:prstGeom prst="rect">
            <a:avLst/>
          </a:prstGeom>
          <a:ln w="0">
            <a:noFill/>
          </a:ln>
        </p:spPr>
      </p:pic>
      <p:pic>
        <p:nvPicPr>
          <p:cNvPr id="1194" name="Picture 1" descr=""/>
          <p:cNvPicPr/>
          <p:nvPr/>
        </p:nvPicPr>
        <p:blipFill>
          <a:blip r:embed="rId6"/>
          <a:stretch/>
        </p:blipFill>
        <p:spPr>
          <a:xfrm>
            <a:off x="3851280" y="3559320"/>
            <a:ext cx="1224000" cy="349200"/>
          </a:xfrm>
          <a:prstGeom prst="rect">
            <a:avLst/>
          </a:prstGeom>
          <a:ln w="0">
            <a:noFill/>
          </a:ln>
        </p:spPr>
      </p:pic>
      <p:pic>
        <p:nvPicPr>
          <p:cNvPr id="1195" name="Picture 1" descr=""/>
          <p:cNvPicPr/>
          <p:nvPr/>
        </p:nvPicPr>
        <p:blipFill>
          <a:blip r:embed="rId7"/>
          <a:stretch/>
        </p:blipFill>
        <p:spPr>
          <a:xfrm>
            <a:off x="2700360" y="4351320"/>
            <a:ext cx="934920" cy="349200"/>
          </a:xfrm>
          <a:prstGeom prst="rect">
            <a:avLst/>
          </a:prstGeom>
          <a:ln w="0">
            <a:noFill/>
          </a:ln>
        </p:spPr>
      </p:pic>
      <p:pic>
        <p:nvPicPr>
          <p:cNvPr id="1196" name="Picture 1" descr=""/>
          <p:cNvPicPr/>
          <p:nvPr/>
        </p:nvPicPr>
        <p:blipFill>
          <a:blip r:embed="rId8"/>
          <a:stretch/>
        </p:blipFill>
        <p:spPr>
          <a:xfrm>
            <a:off x="5580000" y="4349880"/>
            <a:ext cx="935280" cy="349200"/>
          </a:xfrm>
          <a:prstGeom prst="rect">
            <a:avLst/>
          </a:prstGeom>
          <a:ln w="0">
            <a:noFill/>
          </a:ln>
        </p:spPr>
      </p:pic>
      <p:pic>
        <p:nvPicPr>
          <p:cNvPr id="1197" name="Picture 1" descr=""/>
          <p:cNvPicPr/>
          <p:nvPr/>
        </p:nvPicPr>
        <p:blipFill>
          <a:blip r:embed="rId9"/>
          <a:stretch/>
        </p:blipFill>
        <p:spPr>
          <a:xfrm>
            <a:off x="4067280" y="4724280"/>
            <a:ext cx="1225440" cy="349200"/>
          </a:xfrm>
          <a:prstGeom prst="rect">
            <a:avLst/>
          </a:prstGeom>
          <a:ln w="0">
            <a:noFill/>
          </a:ln>
        </p:spPr>
      </p:pic>
      <p:pic>
        <p:nvPicPr>
          <p:cNvPr id="1198" name="Picture 1" descr=""/>
          <p:cNvPicPr/>
          <p:nvPr/>
        </p:nvPicPr>
        <p:blipFill>
          <a:blip r:embed="rId10"/>
          <a:stretch/>
        </p:blipFill>
        <p:spPr>
          <a:xfrm>
            <a:off x="6156360" y="4738680"/>
            <a:ext cx="934920" cy="349200"/>
          </a:xfrm>
          <a:prstGeom prst="rect">
            <a:avLst/>
          </a:prstGeom>
          <a:ln w="0">
            <a:noFill/>
          </a:ln>
        </p:spPr>
      </p:pic>
      <p:pic>
        <p:nvPicPr>
          <p:cNvPr id="1199" name="Picture 1" descr=""/>
          <p:cNvPicPr/>
          <p:nvPr/>
        </p:nvPicPr>
        <p:blipFill>
          <a:blip r:embed="rId11"/>
          <a:stretch/>
        </p:blipFill>
        <p:spPr>
          <a:xfrm>
            <a:off x="1403280" y="5127480"/>
            <a:ext cx="1297080" cy="349560"/>
          </a:xfrm>
          <a:prstGeom prst="rect">
            <a:avLst/>
          </a:prstGeom>
          <a:ln w="0">
            <a:noFill/>
          </a:ln>
        </p:spPr>
      </p:pic>
      <p:pic>
        <p:nvPicPr>
          <p:cNvPr id="1200" name="Picture 1" descr=""/>
          <p:cNvPicPr/>
          <p:nvPr/>
        </p:nvPicPr>
        <p:blipFill>
          <a:blip r:embed="rId12"/>
          <a:stretch/>
        </p:blipFill>
        <p:spPr>
          <a:xfrm>
            <a:off x="6516720" y="5129280"/>
            <a:ext cx="1150920" cy="349200"/>
          </a:xfrm>
          <a:prstGeom prst="rect">
            <a:avLst/>
          </a:prstGeom>
          <a:ln w="0">
            <a:noFill/>
          </a:ln>
        </p:spPr>
      </p:pic>
      <p:pic>
        <p:nvPicPr>
          <p:cNvPr id="1201" name="Picture 1" descr=""/>
          <p:cNvPicPr/>
          <p:nvPr/>
        </p:nvPicPr>
        <p:blipFill>
          <a:blip r:embed="rId13"/>
          <a:stretch/>
        </p:blipFill>
        <p:spPr>
          <a:xfrm>
            <a:off x="2556000" y="5516640"/>
            <a:ext cx="1800000" cy="349200"/>
          </a:xfrm>
          <a:prstGeom prst="rect">
            <a:avLst/>
          </a:prstGeom>
          <a:ln w="0">
            <a:noFill/>
          </a:ln>
        </p:spPr>
      </p:pic>
      <p:pic>
        <p:nvPicPr>
          <p:cNvPr id="1202" name="Picture 1" descr=""/>
          <p:cNvPicPr/>
          <p:nvPr/>
        </p:nvPicPr>
        <p:blipFill>
          <a:blip r:embed="rId14"/>
          <a:stretch/>
        </p:blipFill>
        <p:spPr>
          <a:xfrm>
            <a:off x="6588000" y="5530680"/>
            <a:ext cx="1150920" cy="349560"/>
          </a:xfrm>
          <a:prstGeom prst="rect">
            <a:avLst/>
          </a:prstGeom>
          <a:ln w="0">
            <a:noFill/>
          </a:ln>
        </p:spPr>
      </p:pic>
      <p:pic>
        <p:nvPicPr>
          <p:cNvPr id="1203" name="Picture 1" descr=""/>
          <p:cNvPicPr/>
          <p:nvPr/>
        </p:nvPicPr>
        <p:blipFill>
          <a:blip r:embed="rId15"/>
          <a:stretch/>
        </p:blipFill>
        <p:spPr>
          <a:xfrm>
            <a:off x="1258920" y="6294600"/>
            <a:ext cx="22334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4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9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4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9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4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9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4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9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4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9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4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9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4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9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4" name="图片 1" descr=""/>
          <p:cNvPicPr/>
          <p:nvPr/>
        </p:nvPicPr>
        <p:blipFill>
          <a:blip r:embed="rId1"/>
          <a:stretch/>
        </p:blipFill>
        <p:spPr>
          <a:xfrm>
            <a:off x="281160" y="1285920"/>
            <a:ext cx="8580240" cy="4286160"/>
          </a:xfrm>
          <a:prstGeom prst="rect">
            <a:avLst/>
          </a:prstGeom>
          <a:ln w="0">
            <a:noFill/>
          </a:ln>
        </p:spPr>
      </p:pic>
      <p:pic>
        <p:nvPicPr>
          <p:cNvPr id="1205" name="Picture 1" descr=""/>
          <p:cNvPicPr/>
          <p:nvPr/>
        </p:nvPicPr>
        <p:blipFill>
          <a:blip r:embed="rId2"/>
          <a:stretch/>
        </p:blipFill>
        <p:spPr>
          <a:xfrm>
            <a:off x="3276720" y="24782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206" name="Picture 1" descr=""/>
          <p:cNvPicPr/>
          <p:nvPr/>
        </p:nvPicPr>
        <p:blipFill>
          <a:blip r:embed="rId3"/>
          <a:stretch/>
        </p:blipFill>
        <p:spPr>
          <a:xfrm>
            <a:off x="1476360" y="32274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207" name="Picture 1" descr=""/>
          <p:cNvPicPr/>
          <p:nvPr/>
        </p:nvPicPr>
        <p:blipFill>
          <a:blip r:embed="rId4"/>
          <a:stretch/>
        </p:blipFill>
        <p:spPr>
          <a:xfrm>
            <a:off x="1590840" y="44085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1" descr=""/>
          <p:cNvPicPr/>
          <p:nvPr/>
        </p:nvPicPr>
        <p:blipFill>
          <a:blip r:embed="rId5"/>
          <a:stretch/>
        </p:blipFill>
        <p:spPr>
          <a:xfrm>
            <a:off x="7294680" y="482616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6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1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6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1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219240" y="795240"/>
            <a:ext cx="2600280" cy="590760"/>
          </a:xfrm>
          <a:prstGeom prst="rect">
            <a:avLst/>
          </a:prstGeom>
          <a:ln w="0">
            <a:noFill/>
          </a:ln>
        </p:spPr>
      </p:pic>
      <p:pic>
        <p:nvPicPr>
          <p:cNvPr id="1109" name="图片 2" descr=""/>
          <p:cNvPicPr/>
          <p:nvPr/>
        </p:nvPicPr>
        <p:blipFill>
          <a:blip r:embed="rId2"/>
          <a:stretch/>
        </p:blipFill>
        <p:spPr>
          <a:xfrm>
            <a:off x="219240" y="1386000"/>
            <a:ext cx="8772480" cy="498924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3"/>
          <a:stretch/>
        </p:blipFill>
        <p:spPr>
          <a:xfrm>
            <a:off x="826920" y="593424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4"/>
          <a:stretch/>
        </p:blipFill>
        <p:spPr>
          <a:xfrm>
            <a:off x="2484360" y="592128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5"/>
          <a:stretch/>
        </p:blipFill>
        <p:spPr>
          <a:xfrm>
            <a:off x="4067280" y="59198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6"/>
          <a:stretch/>
        </p:blipFill>
        <p:spPr>
          <a:xfrm>
            <a:off x="5940360" y="593424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7"/>
          <a:stretch/>
        </p:blipFill>
        <p:spPr>
          <a:xfrm>
            <a:off x="7639200" y="591984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图片 1" descr=""/>
          <p:cNvPicPr/>
          <p:nvPr/>
        </p:nvPicPr>
        <p:blipFill>
          <a:blip r:embed="rId1"/>
          <a:stretch/>
        </p:blipFill>
        <p:spPr>
          <a:xfrm>
            <a:off x="214200" y="1266840"/>
            <a:ext cx="8713800" cy="432432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1" descr=""/>
          <p:cNvPicPr/>
          <p:nvPr/>
        </p:nvPicPr>
        <p:blipFill>
          <a:blip r:embed="rId2"/>
          <a:stretch/>
        </p:blipFill>
        <p:spPr>
          <a:xfrm>
            <a:off x="3924360" y="122544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8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1" name="图片 1" descr=""/>
          <p:cNvPicPr/>
          <p:nvPr/>
        </p:nvPicPr>
        <p:blipFill>
          <a:blip r:embed="rId1"/>
          <a:stretch/>
        </p:blipFill>
        <p:spPr>
          <a:xfrm>
            <a:off x="123840" y="839880"/>
            <a:ext cx="889632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图片 1" descr=""/>
          <p:cNvPicPr/>
          <p:nvPr/>
        </p:nvPicPr>
        <p:blipFill>
          <a:blip r:embed="rId1"/>
          <a:stretch/>
        </p:blipFill>
        <p:spPr>
          <a:xfrm>
            <a:off x="95400" y="2476440"/>
            <a:ext cx="8953200" cy="190512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1" descr=""/>
          <p:cNvPicPr/>
          <p:nvPr/>
        </p:nvPicPr>
        <p:blipFill>
          <a:blip r:embed="rId2"/>
          <a:stretch/>
        </p:blipFill>
        <p:spPr>
          <a:xfrm>
            <a:off x="826920" y="3213000"/>
            <a:ext cx="936720" cy="349200"/>
          </a:xfrm>
          <a:prstGeom prst="rect">
            <a:avLst/>
          </a:prstGeom>
          <a:ln w="0">
            <a:noFill/>
          </a:ln>
        </p:spPr>
      </p:pic>
      <p:pic>
        <p:nvPicPr>
          <p:cNvPr id="1214" name="Picture 1" descr=""/>
          <p:cNvPicPr/>
          <p:nvPr/>
        </p:nvPicPr>
        <p:blipFill>
          <a:blip r:embed="rId3"/>
          <a:stretch/>
        </p:blipFill>
        <p:spPr>
          <a:xfrm>
            <a:off x="2987640" y="3213000"/>
            <a:ext cx="936720" cy="349200"/>
          </a:xfrm>
          <a:prstGeom prst="rect">
            <a:avLst/>
          </a:prstGeom>
          <a:ln w="0">
            <a:noFill/>
          </a:ln>
        </p:spPr>
      </p:pic>
      <p:pic>
        <p:nvPicPr>
          <p:cNvPr id="1215" name="Picture 1" descr=""/>
          <p:cNvPicPr/>
          <p:nvPr/>
        </p:nvPicPr>
        <p:blipFill>
          <a:blip r:embed="rId4"/>
          <a:stretch/>
        </p:blipFill>
        <p:spPr>
          <a:xfrm>
            <a:off x="5076720" y="3213000"/>
            <a:ext cx="1224000" cy="349200"/>
          </a:xfrm>
          <a:prstGeom prst="rect">
            <a:avLst/>
          </a:prstGeom>
          <a:ln w="0">
            <a:noFill/>
          </a:ln>
        </p:spPr>
      </p:pic>
      <p:pic>
        <p:nvPicPr>
          <p:cNvPr id="1216" name="Picture 1" descr=""/>
          <p:cNvPicPr/>
          <p:nvPr/>
        </p:nvPicPr>
        <p:blipFill>
          <a:blip r:embed="rId5"/>
          <a:stretch/>
        </p:blipFill>
        <p:spPr>
          <a:xfrm>
            <a:off x="7380360" y="3213000"/>
            <a:ext cx="1224000" cy="349200"/>
          </a:xfrm>
          <a:prstGeom prst="rect">
            <a:avLst/>
          </a:prstGeom>
          <a:ln w="0">
            <a:noFill/>
          </a:ln>
        </p:spPr>
      </p:pic>
      <p:pic>
        <p:nvPicPr>
          <p:cNvPr id="1217" name="Picture 1" descr=""/>
          <p:cNvPicPr/>
          <p:nvPr/>
        </p:nvPicPr>
        <p:blipFill>
          <a:blip r:embed="rId6"/>
          <a:stretch/>
        </p:blipFill>
        <p:spPr>
          <a:xfrm>
            <a:off x="900000" y="3602160"/>
            <a:ext cx="936720" cy="349200"/>
          </a:xfrm>
          <a:prstGeom prst="rect">
            <a:avLst/>
          </a:prstGeom>
          <a:ln w="0">
            <a:noFill/>
          </a:ln>
        </p:spPr>
      </p:pic>
      <p:pic>
        <p:nvPicPr>
          <p:cNvPr id="1218" name="Picture 1" descr=""/>
          <p:cNvPicPr/>
          <p:nvPr/>
        </p:nvPicPr>
        <p:blipFill>
          <a:blip r:embed="rId7"/>
          <a:stretch/>
        </p:blipFill>
        <p:spPr>
          <a:xfrm>
            <a:off x="3060720" y="3602160"/>
            <a:ext cx="936720" cy="349200"/>
          </a:xfrm>
          <a:prstGeom prst="rect">
            <a:avLst/>
          </a:prstGeom>
          <a:ln w="0">
            <a:noFill/>
          </a:ln>
        </p:spPr>
      </p:pic>
      <p:pic>
        <p:nvPicPr>
          <p:cNvPr id="1219" name="Picture 1" descr=""/>
          <p:cNvPicPr/>
          <p:nvPr/>
        </p:nvPicPr>
        <p:blipFill>
          <a:blip r:embed="rId8"/>
          <a:stretch/>
        </p:blipFill>
        <p:spPr>
          <a:xfrm>
            <a:off x="5149800" y="3602160"/>
            <a:ext cx="1224000" cy="349200"/>
          </a:xfrm>
          <a:prstGeom prst="rect">
            <a:avLst/>
          </a:prstGeom>
          <a:ln w="0">
            <a:noFill/>
          </a:ln>
        </p:spPr>
      </p:pic>
      <p:pic>
        <p:nvPicPr>
          <p:cNvPr id="1220" name="Picture 1" descr=""/>
          <p:cNvPicPr/>
          <p:nvPr/>
        </p:nvPicPr>
        <p:blipFill>
          <a:blip r:embed="rId9"/>
          <a:stretch/>
        </p:blipFill>
        <p:spPr>
          <a:xfrm>
            <a:off x="7453440" y="3602160"/>
            <a:ext cx="1224000" cy="349200"/>
          </a:xfrm>
          <a:prstGeom prst="rect">
            <a:avLst/>
          </a:prstGeom>
          <a:ln w="0">
            <a:noFill/>
          </a:ln>
        </p:spPr>
      </p:pic>
      <p:pic>
        <p:nvPicPr>
          <p:cNvPr id="1221" name="Picture 1" descr=""/>
          <p:cNvPicPr/>
          <p:nvPr/>
        </p:nvPicPr>
        <p:blipFill>
          <a:blip r:embed="rId10"/>
          <a:stretch/>
        </p:blipFill>
        <p:spPr>
          <a:xfrm>
            <a:off x="971640" y="3990960"/>
            <a:ext cx="1152360" cy="349200"/>
          </a:xfrm>
          <a:prstGeom prst="rect">
            <a:avLst/>
          </a:prstGeom>
          <a:ln w="0">
            <a:noFill/>
          </a:ln>
        </p:spPr>
      </p:pic>
      <p:pic>
        <p:nvPicPr>
          <p:cNvPr id="1222" name="Picture 1" descr=""/>
          <p:cNvPicPr/>
          <p:nvPr/>
        </p:nvPicPr>
        <p:blipFill>
          <a:blip r:embed="rId11"/>
          <a:stretch/>
        </p:blipFill>
        <p:spPr>
          <a:xfrm>
            <a:off x="3132000" y="3990960"/>
            <a:ext cx="136872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5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0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5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0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5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0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5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0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5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0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3" name="图片 1" descr=""/>
          <p:cNvPicPr/>
          <p:nvPr/>
        </p:nvPicPr>
        <p:blipFill>
          <a:blip r:embed="rId1"/>
          <a:stretch/>
        </p:blipFill>
        <p:spPr>
          <a:xfrm>
            <a:off x="176040" y="809640"/>
            <a:ext cx="8790120" cy="5238720"/>
          </a:xfrm>
          <a:prstGeom prst="rect">
            <a:avLst/>
          </a:prstGeom>
          <a:ln w="0">
            <a:noFill/>
          </a:ln>
        </p:spPr>
      </p:pic>
      <p:pic>
        <p:nvPicPr>
          <p:cNvPr id="1224" name="Picture 1" descr=""/>
          <p:cNvPicPr/>
          <p:nvPr/>
        </p:nvPicPr>
        <p:blipFill>
          <a:blip r:embed="rId2"/>
          <a:stretch/>
        </p:blipFill>
        <p:spPr>
          <a:xfrm>
            <a:off x="468360" y="5661000"/>
            <a:ext cx="849636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7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图片 1" descr=""/>
          <p:cNvPicPr/>
          <p:nvPr/>
        </p:nvPicPr>
        <p:blipFill>
          <a:blip r:embed="rId1"/>
          <a:stretch/>
        </p:blipFill>
        <p:spPr>
          <a:xfrm>
            <a:off x="128520" y="2557440"/>
            <a:ext cx="8885160" cy="1743120"/>
          </a:xfrm>
          <a:prstGeom prst="rect">
            <a:avLst/>
          </a:prstGeom>
          <a:ln w="0">
            <a:noFill/>
          </a:ln>
        </p:spPr>
      </p:pic>
      <p:pic>
        <p:nvPicPr>
          <p:cNvPr id="1226" name="Picture 1" descr=""/>
          <p:cNvPicPr/>
          <p:nvPr/>
        </p:nvPicPr>
        <p:blipFill>
          <a:blip r:embed="rId2"/>
          <a:stretch/>
        </p:blipFill>
        <p:spPr>
          <a:xfrm>
            <a:off x="179280" y="2548080"/>
            <a:ext cx="8785440" cy="349200"/>
          </a:xfrm>
          <a:prstGeom prst="rect">
            <a:avLst/>
          </a:prstGeom>
          <a:ln w="0">
            <a:noFill/>
          </a:ln>
        </p:spPr>
      </p:pic>
      <p:pic>
        <p:nvPicPr>
          <p:cNvPr id="1227" name="Picture 1" descr=""/>
          <p:cNvPicPr/>
          <p:nvPr/>
        </p:nvPicPr>
        <p:blipFill>
          <a:blip r:embed="rId3"/>
          <a:stretch/>
        </p:blipFill>
        <p:spPr>
          <a:xfrm>
            <a:off x="187200" y="2924280"/>
            <a:ext cx="8785440" cy="349200"/>
          </a:xfrm>
          <a:prstGeom prst="rect">
            <a:avLst/>
          </a:prstGeom>
          <a:ln w="0">
            <a:noFill/>
          </a:ln>
        </p:spPr>
      </p:pic>
      <p:pic>
        <p:nvPicPr>
          <p:cNvPr id="1228" name="Picture 1" descr=""/>
          <p:cNvPicPr/>
          <p:nvPr/>
        </p:nvPicPr>
        <p:blipFill>
          <a:blip r:embed="rId4"/>
          <a:stretch/>
        </p:blipFill>
        <p:spPr>
          <a:xfrm>
            <a:off x="222120" y="3324240"/>
            <a:ext cx="8785440" cy="349200"/>
          </a:xfrm>
          <a:prstGeom prst="rect">
            <a:avLst/>
          </a:prstGeom>
          <a:ln w="0">
            <a:noFill/>
          </a:ln>
        </p:spPr>
      </p:pic>
      <p:pic>
        <p:nvPicPr>
          <p:cNvPr id="1229" name="Picture 1" descr=""/>
          <p:cNvPicPr/>
          <p:nvPr/>
        </p:nvPicPr>
        <p:blipFill>
          <a:blip r:embed="rId5"/>
          <a:stretch/>
        </p:blipFill>
        <p:spPr>
          <a:xfrm>
            <a:off x="230040" y="3713040"/>
            <a:ext cx="87854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4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9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4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9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图片 1" descr=""/>
          <p:cNvPicPr/>
          <p:nvPr/>
        </p:nvPicPr>
        <p:blipFill>
          <a:blip r:embed="rId1"/>
          <a:stretch/>
        </p:blipFill>
        <p:spPr>
          <a:xfrm>
            <a:off x="433440" y="1305000"/>
            <a:ext cx="8275680" cy="424800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3"/>
          <a:stretch/>
        </p:blipFill>
        <p:spPr>
          <a:xfrm>
            <a:off x="684360" y="2060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4"/>
          <a:stretch/>
        </p:blipFill>
        <p:spPr>
          <a:xfrm>
            <a:off x="755640" y="2852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5"/>
          <a:stretch/>
        </p:blipFill>
        <p:spPr>
          <a:xfrm>
            <a:off x="755640" y="3645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6"/>
          <a:stretch/>
        </p:blipFill>
        <p:spPr>
          <a:xfrm>
            <a:off x="755640" y="436572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324000" y="835200"/>
            <a:ext cx="8637480" cy="584676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432000" cy="34956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3"/>
          <a:stretch/>
        </p:blipFill>
        <p:spPr>
          <a:xfrm>
            <a:off x="611280" y="2421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4"/>
          <a:stretch/>
        </p:blipFill>
        <p:spPr>
          <a:xfrm>
            <a:off x="684360" y="436572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5"/>
          <a:stretch/>
        </p:blipFill>
        <p:spPr>
          <a:xfrm>
            <a:off x="611280" y="5084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6"/>
          <a:stretch/>
        </p:blipFill>
        <p:spPr>
          <a:xfrm>
            <a:off x="684360" y="587700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图片 1" descr=""/>
          <p:cNvPicPr/>
          <p:nvPr/>
        </p:nvPicPr>
        <p:blipFill>
          <a:blip r:embed="rId1"/>
          <a:stretch/>
        </p:blipFill>
        <p:spPr>
          <a:xfrm>
            <a:off x="204840" y="1400040"/>
            <a:ext cx="8732880" cy="405792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2"/>
          <a:stretch/>
        </p:blipFill>
        <p:spPr>
          <a:xfrm>
            <a:off x="2484360" y="2535120"/>
            <a:ext cx="1440000" cy="34920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3"/>
          <a:stretch/>
        </p:blipFill>
        <p:spPr>
          <a:xfrm>
            <a:off x="4716360" y="3284640"/>
            <a:ext cx="719280" cy="34920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4"/>
          <a:stretch/>
        </p:blipFill>
        <p:spPr>
          <a:xfrm>
            <a:off x="971640" y="4349880"/>
            <a:ext cx="718920" cy="34920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5"/>
          <a:stretch/>
        </p:blipFill>
        <p:spPr>
          <a:xfrm>
            <a:off x="7164360" y="4351320"/>
            <a:ext cx="936720" cy="34920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6"/>
          <a:stretch/>
        </p:blipFill>
        <p:spPr>
          <a:xfrm>
            <a:off x="6300720" y="4897440"/>
            <a:ext cx="93672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3" name="图片 1" descr=""/>
          <p:cNvPicPr/>
          <p:nvPr/>
        </p:nvPicPr>
        <p:blipFill>
          <a:blip r:embed="rId1"/>
          <a:stretch/>
        </p:blipFill>
        <p:spPr>
          <a:xfrm>
            <a:off x="147600" y="209520"/>
            <a:ext cx="8847000" cy="643896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2"/>
          <a:stretch/>
        </p:blipFill>
        <p:spPr>
          <a:xfrm>
            <a:off x="395280" y="11541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3"/>
          <a:stretch/>
        </p:blipFill>
        <p:spPr>
          <a:xfrm>
            <a:off x="468360" y="2781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4"/>
          <a:stretch/>
        </p:blipFill>
        <p:spPr>
          <a:xfrm>
            <a:off x="395280" y="393372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5"/>
          <a:stretch/>
        </p:blipFill>
        <p:spPr>
          <a:xfrm>
            <a:off x="468360" y="5084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6"/>
          <a:stretch/>
        </p:blipFill>
        <p:spPr>
          <a:xfrm>
            <a:off x="395280" y="587700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图片 1" descr=""/>
          <p:cNvPicPr/>
          <p:nvPr/>
        </p:nvPicPr>
        <p:blipFill>
          <a:blip r:embed="rId1"/>
          <a:stretch/>
        </p:blipFill>
        <p:spPr>
          <a:xfrm>
            <a:off x="133200" y="774720"/>
            <a:ext cx="8877600" cy="590400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3"/>
          <a:stretch/>
        </p:blipFill>
        <p:spPr>
          <a:xfrm>
            <a:off x="395280" y="234936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" descr=""/>
          <p:cNvPicPr/>
          <p:nvPr/>
        </p:nvPicPr>
        <p:blipFill>
          <a:blip r:embed="rId4"/>
          <a:stretch/>
        </p:blipFill>
        <p:spPr>
          <a:xfrm>
            <a:off x="395280" y="350028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" descr=""/>
          <p:cNvPicPr/>
          <p:nvPr/>
        </p:nvPicPr>
        <p:blipFill>
          <a:blip r:embed="rId5"/>
          <a:stretch/>
        </p:blipFill>
        <p:spPr>
          <a:xfrm>
            <a:off x="395280" y="4292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" descr=""/>
          <p:cNvPicPr/>
          <p:nvPr/>
        </p:nvPicPr>
        <p:blipFill>
          <a:blip r:embed="rId6"/>
          <a:stretch/>
        </p:blipFill>
        <p:spPr>
          <a:xfrm>
            <a:off x="395280" y="544500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图片 1" descr=""/>
          <p:cNvPicPr/>
          <p:nvPr/>
        </p:nvPicPr>
        <p:blipFill>
          <a:blip r:embed="rId1"/>
          <a:stretch/>
        </p:blipFill>
        <p:spPr>
          <a:xfrm>
            <a:off x="85680" y="577800"/>
            <a:ext cx="8972640" cy="3191040"/>
          </a:xfrm>
          <a:prstGeom prst="rect">
            <a:avLst/>
          </a:prstGeom>
          <a:ln w="0">
            <a:noFill/>
          </a:ln>
        </p:spPr>
      </p:pic>
      <p:pic>
        <p:nvPicPr>
          <p:cNvPr id="1146" name="图片 2" descr=""/>
          <p:cNvPicPr/>
          <p:nvPr/>
        </p:nvPicPr>
        <p:blipFill>
          <a:blip r:embed="rId2"/>
          <a:stretch/>
        </p:blipFill>
        <p:spPr>
          <a:xfrm>
            <a:off x="85680" y="3768840"/>
            <a:ext cx="8420040" cy="30178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" descr=""/>
          <p:cNvPicPr/>
          <p:nvPr/>
        </p:nvPicPr>
        <p:blipFill>
          <a:blip r:embed="rId3"/>
          <a:stretch/>
        </p:blipFill>
        <p:spPr>
          <a:xfrm>
            <a:off x="468360" y="620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" descr=""/>
          <p:cNvPicPr/>
          <p:nvPr/>
        </p:nvPicPr>
        <p:blipFill>
          <a:blip r:embed="rId4"/>
          <a:stretch/>
        </p:blipFill>
        <p:spPr>
          <a:xfrm>
            <a:off x="468360" y="1341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" descr=""/>
          <p:cNvPicPr/>
          <p:nvPr/>
        </p:nvPicPr>
        <p:blipFill>
          <a:blip r:embed="rId5"/>
          <a:stretch/>
        </p:blipFill>
        <p:spPr>
          <a:xfrm>
            <a:off x="468360" y="213372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1" descr=""/>
          <p:cNvPicPr/>
          <p:nvPr/>
        </p:nvPicPr>
        <p:blipFill>
          <a:blip r:embed="rId6"/>
          <a:stretch/>
        </p:blipFill>
        <p:spPr>
          <a:xfrm>
            <a:off x="468360" y="335772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1" descr=""/>
          <p:cNvPicPr/>
          <p:nvPr/>
        </p:nvPicPr>
        <p:blipFill>
          <a:blip r:embed="rId7"/>
          <a:stretch/>
        </p:blipFill>
        <p:spPr>
          <a:xfrm>
            <a:off x="468360" y="450864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图片 1" descr=""/>
          <p:cNvPicPr/>
          <p:nvPr/>
        </p:nvPicPr>
        <p:blipFill>
          <a:blip r:embed="rId1"/>
          <a:stretch/>
        </p:blipFill>
        <p:spPr>
          <a:xfrm>
            <a:off x="114480" y="888840"/>
            <a:ext cx="8915400" cy="545652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1" descr=""/>
          <p:cNvPicPr/>
          <p:nvPr/>
        </p:nvPicPr>
        <p:blipFill>
          <a:blip r:embed="rId2"/>
          <a:stretch/>
        </p:blipFill>
        <p:spPr>
          <a:xfrm>
            <a:off x="468360" y="602136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51:52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